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22C9-CCE4-45AD-BEA0-EB316F0E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4746-3CA2-4299-BD38-3AEBE8DC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EE53-FFDE-4E2A-8882-3E76201B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A283-CD93-4FD9-8B48-54187B5D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33E5-08AE-4BA3-A1F5-131FFD7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DB3B-C68C-4E29-9F82-0395932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AAA8-5945-49C1-A7CD-8B58212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08B-1042-4F1D-9040-5A80F81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A86-BF12-444B-8B6B-6391A95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812E-7D8E-4194-B76B-FE24C8F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007D-1823-4901-8C4E-72D5AF7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4170-FE60-4494-B7F2-633F8E5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B0BE-ECE7-40AC-8201-D7AC89A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702E-9CE5-44D9-80E7-B12573C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57E8-57C3-4090-AF36-5A2F996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A494-433F-47CE-BBFC-ABCA7143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48C-4DD3-403A-9E7D-0F9B76C0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4F47-EE47-4508-9FE1-FB5C66C3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9CAB-95DC-4693-B049-A453F0A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5050-25A5-4D5B-8C8D-D6AF007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EF6F-78AA-401A-A27C-17AE1180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9A81-3A9B-4726-A81E-512DAA06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AEB0-6AC8-4511-BB78-4429094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5052-7877-4E65-BB70-9721486E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33B6-DC46-4FF4-A480-766561D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54C0-F856-4FF4-B01F-A91F6F3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EA9E-CD9E-4C14-A979-ABEDBA04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89B6-6F6D-411D-81BC-36AB461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F98E-1223-4FC3-A57F-93B8D25A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C75F-E0A3-47F2-A73F-739694C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922B-ACCA-43E0-A459-37FE2AB5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FE17-5D52-42C2-9094-914C507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55C2-A737-442B-81FD-C5B3C4AD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BAC7-5597-4609-AB86-D6AB0E3C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7DCA-7FB7-43EE-98FB-82D65B0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F0C6-46CD-4133-9C19-5A435D8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279-F179-4F1D-9BEE-D162288D2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9F0-7B15-4158-AA56-9F268EB97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F07F-BF97-425A-851C-CC3D2E05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Eye Protection !!!!!!!!!!</a:t>
            </a:r>
            <a:endParaRPr b="1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43434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&gt;1000 eye injuries/day in U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Vast majority not in classrooms, thank good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6656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04920" y="1600200"/>
            <a:ext cx="8838720" cy="2285640"/>
            <a:chOff x="304920" y="1600200"/>
            <a:chExt cx="8838720" cy="22856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0" t="0" r="0" b="27699"/>
            <a:stretch/>
          </p:blipFill>
          <p:spPr>
            <a:xfrm>
              <a:off x="304920" y="1600200"/>
              <a:ext cx="883872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04920" y="3885840"/>
              <a:ext cx="85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380880"/>
            <a:ext cx="48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sing an Eyewash Station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yewash bottles are NOT adequate !!!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each students to help victim.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ye problems require medical attention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7384" t="6486" r="0" b="0"/>
          <a:stretch/>
        </p:blipFill>
        <p:spPr>
          <a:xfrm>
            <a:off x="4800600" y="228600"/>
            <a:ext cx="3886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57360" y="586728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blem: Inadequate safety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?????</a:t>
            </a:r>
            <a:br>
              <a:rPr sz="54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t is important to know which of your students wear contact lenses so that the lenses can be removed immediately in case of a chemical eye splash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Ye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- It is important to know which of your students wear contact lenses…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 -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…so that the lenses can be removed immediately in case of a chemical eye splash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4384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8088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ver try to remove contact lens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22T22:13:18Z</dcterms:modified>
  <cp:revision>44</cp:revision>
  <dc:subject/>
  <dc:title>Safety in the Classroom</dc:title>
</cp:coreProperties>
</file>